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35222"/>
        <c:axId val="7765458"/>
      </c:barChart>
      <c:catAx>
        <c:axId val="44235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5458"/>
        <c:crosses val="autoZero"/>
        <c:auto val="1"/>
        <c:lblAlgn val="ctr"/>
        <c:lblOffset val="100"/>
        <c:noMultiLvlLbl val="0"/>
      </c:catAx>
      <c:valAx>
        <c:axId val="7765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5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017-3983-4850-A9C3-5EF569D9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4A7-CF19-419F-9452-0912F7B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0D2-418B-4BAB-98AC-5E865F3C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E3F-C07F-40A8-AC8A-EC33FA93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4A3-7DDC-4C1F-A1D4-676B9EF2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129-3020-4B15-BB0C-D05858ED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131-9A1F-43B9-8BE3-D40D12E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9CD-93C5-4E93-AE43-96236A0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ABC-FD3E-4C49-ADFA-407C104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C53-0A6A-4F11-92BC-5E9C421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0B9-4563-453B-B55B-D2D504E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DA1-C119-4EA2-AA19-79C9AEF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CF55-23D2-4D2D-AA17-D1B10FFCF4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