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80481"/>
        <c:axId val="40975929"/>
      </c:barChart>
      <c:catAx>
        <c:axId val="48480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75929"/>
        <c:crosses val="autoZero"/>
        <c:auto val="1"/>
        <c:lblAlgn val="ctr"/>
        <c:lblOffset val="100"/>
        <c:noMultiLvlLbl val="0"/>
      </c:catAx>
      <c:valAx>
        <c:axId val="40975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80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214-28A3-4696-9030-B88C6381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247-572C-4153-A491-328004B8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65B-BA3C-4183-95FE-C364A832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EFB-CEF0-4758-923B-C6AE9398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D62-A5F3-45E6-B325-126BAA3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3C5-B5F5-4901-A2F0-EEB2846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8D9-8724-4C51-BD5C-20CFAC4C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CE6-5D71-4CE2-8C0D-E9EC12E3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599-1649-4916-BB63-7029D52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3D4-626E-4C8A-A3E2-2109DAA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B0D-12FD-4C80-A5C4-00B937B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3C9-E797-4970-8182-DB412AFF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1AE9-D94D-434F-8BDE-A362F05C6A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