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10028"/>
        <c:axId val="88060485"/>
      </c:barChart>
      <c:catAx>
        <c:axId val="17210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60485"/>
        <c:crosses val="autoZero"/>
        <c:auto val="1"/>
        <c:lblAlgn val="ctr"/>
        <c:lblOffset val="100"/>
        <c:noMultiLvlLbl val="0"/>
      </c:catAx>
      <c:valAx>
        <c:axId val="88060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10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3B7-AB0F-4A13-8BA1-58815226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0EC-A4B2-4743-AFDE-AEE8399B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A50-D71B-4D40-BBB8-DA7EB632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C08-A367-4E09-B784-15707DC4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554-36B9-4249-94BC-8BC14050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3CA-8AD8-4470-83CC-40F0C0DF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270-2435-4D5C-8E19-A323CB25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E55-53C6-4C60-B5E5-F2EE29E4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814-B4FC-4E7B-AEB5-A0351187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F53-D72F-4AAE-BEEE-E22DBCC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A93-AD58-4442-9372-92A27CD5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902-B577-481B-A8F3-7A97746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0AC0F-D943-4D9B-91E3-6C402518F0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