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21183"/>
        <c:axId val="81868072"/>
      </c:barChart>
      <c:catAx>
        <c:axId val="37421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68072"/>
        <c:crosses val="autoZero"/>
        <c:auto val="1"/>
        <c:lblAlgn val="ctr"/>
        <c:lblOffset val="100"/>
        <c:noMultiLvlLbl val="0"/>
      </c:catAx>
      <c:valAx>
        <c:axId val="81868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21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D58-E1E9-4DA2-818C-B4BC4CD2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ABA-138F-411D-89F0-C4AAF223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065-4341-4F53-B812-50876B2D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6C5-BB87-46ED-9622-17B75BC4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54D-483C-4021-832D-B18E5DAF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CF8-7B8E-47CF-AB91-A87EC637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DB7-BB3C-4D80-9E1B-1BD0D301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419-581A-4858-8150-434C7684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A65-E847-4FE1-99CC-73C73D4D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53F-DCB9-4ECC-BFDC-9DAD4977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E38-EBA4-4989-9FFD-E09051C0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1A8-1E76-48F8-BA57-9439B8D8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7AA9E-A71B-4ACC-8872-8FFC303C9E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