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30599"/>
        <c:axId val="63804463"/>
      </c:barChart>
      <c:catAx>
        <c:axId val="21630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4463"/>
        <c:crosses val="autoZero"/>
        <c:auto val="1"/>
        <c:lblAlgn val="ctr"/>
        <c:lblOffset val="100"/>
        <c:noMultiLvlLbl val="0"/>
      </c:catAx>
      <c:valAx>
        <c:axId val="63804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0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50E-E7B7-4D2D-A6BA-93987A91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9EA-507F-4EB4-9E3D-78A3EFF4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50F-734B-426C-9546-6871B8F3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E1A-A9CE-4675-918C-CA5B6809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5FF-8990-4880-A616-841A8F44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5AB-1BDF-4BFB-89D1-93E8F6D5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CC6-8316-4A0C-8477-829AB739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7E2-76AD-4108-A022-172CE489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7C3-8647-409D-AE74-C139AFD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67F-2316-40FF-95FD-A81B986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EF7-E28B-4E02-A0CC-D15F29A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228-1B9D-4A38-9024-28D2B96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F4A48-3231-4AFF-9528-E8D3378AEF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