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47543"/>
        <c:axId val="7850263"/>
      </c:barChart>
      <c:catAx>
        <c:axId val="912475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0263"/>
        <c:crosses val="autoZero"/>
        <c:auto val="1"/>
        <c:lblAlgn val="ctr"/>
        <c:lblOffset val="100"/>
        <c:noMultiLvlLbl val="0"/>
      </c:catAx>
      <c:valAx>
        <c:axId val="7850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475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B98D-EE8B-4942-A9A6-93C6D8133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8642-8EFD-4D58-9E47-77FE4C82D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C51F-6F45-44B2-93E5-5B584EEB8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63E-787F-47FC-8146-12BFFC9A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C9B0-DAD5-4B3D-9639-5E526CF1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69B-B434-4811-A4E3-8FADF9FC0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8118-69C2-435A-8094-BA646782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166-AA6F-409D-B48D-D3A291ED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BCA-A40B-4E74-A1AE-E6829ECFE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82F6-27E3-499A-A5B1-0B79B017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F34-2FCF-4C9C-BCD2-A3CF5084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9391-EB4A-481E-AF51-C1EB3D51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48B8B0-E81E-4508-991B-37A540AD7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