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76321"/>
        <c:axId val="21506388"/>
      </c:barChart>
      <c:catAx>
        <c:axId val="52476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06388"/>
        <c:crosses val="autoZero"/>
        <c:auto val="1"/>
        <c:lblAlgn val="ctr"/>
        <c:lblOffset val="100"/>
        <c:noMultiLvlLbl val="0"/>
      </c:catAx>
      <c:valAx>
        <c:axId val="21506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76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C063-641C-4BD0-AC58-F31D336B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AE64-11B6-4055-AD33-1069B606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6A3-9AAB-4857-9B47-35D17876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B626-0BF6-4B94-BDB5-9C0FE6C6E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3CD-7FC1-4DF4-9A3A-E34083C8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5EE0-7423-4A30-9318-9612934C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AF5-8590-4397-A821-FC6D611A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18E0-F4FF-43D3-B04B-6093C9F7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692-B625-4093-B647-8896B501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2102-65AF-465D-BBB1-3A821C11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59D-54AE-4ADC-9F35-8B330C11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9A4-7AB5-47E2-B39D-39018276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1E4F7-AFD6-4A46-9896-1B88C2CD11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