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42560"/>
        <c:axId val="39531919"/>
      </c:barChart>
      <c:catAx>
        <c:axId val="30942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31919"/>
        <c:crosses val="autoZero"/>
        <c:auto val="1"/>
        <c:lblAlgn val="ctr"/>
        <c:lblOffset val="100"/>
        <c:noMultiLvlLbl val="0"/>
      </c:catAx>
      <c:valAx>
        <c:axId val="39531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42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C3C5-E37C-413E-AB5F-F110A17B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DF9-7987-4528-84F5-F9F62DB4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64D-B7CF-466E-BCB2-E0BBF06C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C5E-B48D-4EE1-BA1C-D125BAA4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CF3-5C2D-4AE0-8630-E99B69A7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F52-39E2-4D0B-9B18-E2137EF0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88D-2925-4410-B760-A8E1F412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56E2-B8C6-4C96-B0CE-11C3E54B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405-3B45-4759-9BAF-94D810E6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A01-F6F4-4F64-9C29-DF71A8D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D64-2B3D-4922-91A8-FE56D52C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A80-B9B4-4E1F-A721-C4955248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C9ED8-5E12-44FA-8C42-342059310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