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6367"/>
        <c:axId val="55457141"/>
      </c:barChart>
      <c:catAx>
        <c:axId val="7016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57141"/>
        <c:crosses val="autoZero"/>
        <c:auto val="1"/>
        <c:lblAlgn val="ctr"/>
        <c:lblOffset val="100"/>
        <c:noMultiLvlLbl val="0"/>
      </c:catAx>
      <c:valAx>
        <c:axId val="554571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6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E3C-BD92-40CA-94C1-00513225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081-FEF2-4EEF-A124-41EAD815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99F-042C-4DE3-9B42-625A316E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1B7-56A3-4ECA-A1B7-8F5CF897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6366-AD00-4F79-A548-AA16A370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AED-C532-47B3-8C0E-115AB512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DC4C-E758-4935-AB8D-F442F220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9CC-E376-4C2F-97BD-DE533470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3ED-8801-4DD5-9296-156D020A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31B-92FC-43EE-89E3-D2B359A7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E7B-C329-4204-A4C1-1BECFD2D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CBA-4704-49D4-903F-5242C513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E387C-D3F8-4953-AFEF-00E9087472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