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464-6DF8-48BD-A14E-4C7B073E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3B5-AAC1-41E9-90A9-1B7CDBBE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168ED-B4F7-4D49-A253-8C1B4160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742DD-15F4-4649-A235-5D142D87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F28CE-8A4F-4E3A-8A10-672628CE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C8FEB-F4ED-4B04-830D-A737B31A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60B50-55A5-402D-8B1B-8651C0B0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97FAC-33E2-4CC3-AD68-2F874D37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2FD87-81C4-4524-82EB-8C4BB22D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C59F6-A020-4E6C-AC28-783CD1DB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7A73F-A771-46F7-8A88-CA4CD4DA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44EFDA-8B8B-4348-9B62-983EB55A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EE9-5696-4EEA-B59D-321C40BE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978D86-AFC3-468F-83CB-ECC93E02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0B2421-8436-4DCC-8CEC-B8D54F95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BF0B0C-D0C6-4BE6-95E8-CBD05F79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C78AF8-D50C-4182-B9E7-FB32431B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194238-CFF8-4678-935E-26E35FC0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1F407C-F898-4A26-9A94-50DF542F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0FA3DB-4861-4E23-8D7C-43BF6E08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CD660B-BAB1-4740-9708-69101C4F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6FFE94-EB14-4720-AA72-1333EE43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EBD2E0-4B34-40A7-9AEF-269B94E3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EAE-16A4-46F0-A659-176F1784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B74CB4-DC08-406D-A3FE-63DD6FC9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19653-F5C7-4AF9-B591-A0598DAE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446C0-A983-49AE-AEE7-3F4AD3B0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0DDA1-E841-4C99-B860-06D1241B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269D4-EB34-4B48-B173-A6D0CE7A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7B1BD-1E8A-44EA-9453-69E1D78D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1CD2A-CDFA-499F-82ED-7F4CF2B2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38806-9D14-4F5E-8383-DD181438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ED0FB-D69D-472E-90DB-155AC0A6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29F00-1739-4A9C-AD57-F797EB2E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39AA-C8B7-455E-BC07-6D69BC66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19A35-CB87-4BE6-AA95-ABE48F17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72224-926F-4CFD-B046-E9E4C2DE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8EFE4-52B7-481D-9118-7CB3BD08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5DBDF-7E05-4D9A-BD96-94DB127E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250B3-4570-4892-A8B8-5C7E5F98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11D60-335B-4E89-B91E-5ECE751A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F0CD7-69B8-45F7-A44E-EF5F12C5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A6CE0-1772-4989-A38B-ADE1B755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08738-16A3-4F36-A428-3F885F2F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DF5A8-8FDF-494C-91D4-D25EF383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A8D2-5317-4E61-9230-91B38807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E2C27-ACE1-49E3-88CC-05FCCF58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61320-9A4E-4F96-A1B0-036F452C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F4BDF-D4F1-4403-A0C2-13105D7C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9C4E5-25C3-40B6-8A2F-57BE8D01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E20EA-59CA-482B-B992-BD732509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CDA3-DA43-4674-8E11-E0F4AA1D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BDDA-78F4-45CF-8894-B040370C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2CD2-31DA-4EA2-A7E4-02492E38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B674-E274-4C43-807B-CC041011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6BDA-2ACE-45DB-A88C-8226212B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DB4-7BE2-4F1E-8F0A-DD3551FD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3382-254B-4CE6-B454-2770A15D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AD08-7C74-4FEB-83A1-73687A8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ABAC-51E8-4DF4-8855-E65623C9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3851-5550-40DC-9D7D-C3E41C7E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99C1-AFC6-4155-AA51-C4F41AED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523B-222E-4F43-8676-23190337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8221-C6F5-4643-A353-F65F33E2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ED56-B79C-4236-BD02-D54100B2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B245-4661-4508-99EE-DCBE175C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38E1-93E3-4BF4-B343-79C0A9CF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E2B-10A8-46B2-B7C3-8F80A38F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F570-E6BB-4114-90B0-04FB2818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D8A2-3E24-4ACA-AA78-4356473D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CB4B-EF37-458D-9C0F-F5472740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FCEBE-54C6-49EB-A5D4-E1C45EBB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8F19-C854-48B5-A41D-DC850552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3BE74-CD14-445D-BEBE-3818FECA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06D8-AC55-4F1A-8C18-38064CB9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5A442-C703-483C-AFD0-268063B2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F1045-FB07-490D-9F8F-968B7FE6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22FB3-BAA0-4123-859D-5E256E8C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931-BDE1-4F4E-896D-3D7606F0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8C61-8C04-425E-8CD5-99292376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B7B2E-0627-4848-AA3C-C9DC6B9A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0CF3E-8950-4403-A519-236DF911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49F97-283F-4C2E-8805-CE759903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125C8-E210-436F-820D-9B19044F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B6B33-362B-427A-A805-C9CB25DA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7B9BE-D81A-47DA-8D98-5135F3D5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F735E-EA38-437B-AEDE-96A7C134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07E4-4FA3-448E-AC8D-454D0798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8A413-F15A-4D5D-B672-D429F7CA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CCE-8C35-47F2-BE81-7F901210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70999-602E-42FF-A128-5C5C82C4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F8E47-21D0-4C06-86A8-1DD280A1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B22EF-5163-4296-BA5A-F3389F47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806D5B-FC93-4C5C-AECB-10B2F0C9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7DCB0-93EB-4393-8AEB-72671C2E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B502C-5452-47F3-A85A-2416DC9D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61394-06B0-4006-8C77-260895F2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7BEA7-9AD7-4393-9CC0-D8B318DA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A7058-958F-403B-89BB-F4485A72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86650-3AD3-46D5-B1B1-2D2ED4FD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27F-4158-4804-ADF5-7DD6685F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82908-C21B-43E6-A842-2C344BD9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283BE-DE08-4CA4-ABEC-0A6A860D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9A26F-0DBE-482D-B19C-BB60FFC0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6A5B3-BA61-45A2-87D9-FF265621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68586-0206-431B-8826-6559362F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65C83-52F1-4B2A-B81A-355A1E04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9EA87-8EEE-4D9B-9AB9-FE481C41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49CF0-D595-418C-89E6-C37A5E51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5CC50-9316-4F6C-9C80-380BFAEF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D2A5B-71D9-4FCC-ABC2-6FA2BE5D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57C-A7EB-4956-BA2C-6129D089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DAE91-AC26-47D9-8AEE-ADB7CB99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56052-5BEE-4BD6-A54B-B9991FD6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42C05-B970-425A-A519-544F339A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4699D-5A3F-461A-B83A-2AF989A2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B2173-A678-4EA0-98B1-4A76553E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E2F20-2311-4B2F-89B1-E460EAF5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9154C-1BCC-446E-BC90-19EEDE12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7B95E-CCF7-4E34-89D3-E8C9A430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5BA46-6111-4E2E-B7EF-591048CE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AF43E-CEC5-4F8A-93D9-8CFCF7E2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C67-1526-43C2-AB6F-4DC20783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BF467-6C00-44F6-A5FE-B953B760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B25AE-5381-4D67-BB58-1FAD7C40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033D-131A-4A0E-A28F-B67623D2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24672-DF35-4925-A5D8-3A90673F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25C90-FAAF-494C-9F31-83F96B21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C3BFF-9810-4FD7-9547-D7961F30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17254-56CD-41FB-9382-0E29EA75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68100-EC3E-4D6B-AFF5-1E2CAFDD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2B63A-F9DE-47D9-869A-17C56D48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48515-8C2D-46AB-83FD-0D8D8472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94F-3105-4953-ADC1-ADF4E7E9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76363-A5BF-4BEA-B986-314A7FED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BF3B1-1D6E-47F7-94D7-3759C37D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7F1D6-0DE4-45BA-AC27-B4EB467E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09CB5-D355-4F9C-908F-AFF4C09E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EC3AB-E3D8-4EA7-9EBA-A390C028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4489F-12D9-4C79-A738-C1BA980B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BC34A-8B79-4955-A641-C7E62F61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0D050-6F63-4546-A28D-05A94D17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FC63D-1498-4379-B78A-95D13C6A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3B0E1-F934-4911-B1CD-87596C6F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EAFE-B1D4-4EE5-A241-0F2680A4FC0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13D9-CB0D-49D2-8EC1-9AD4EC00B4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691E-BAF4-40EF-82AD-47B95AC89DE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E5CC-0812-4A79-814F-9AB0CC3DC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D61A-634C-4348-A2C4-9000EA3B630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4659-0670-43D9-BB98-56BC42889E5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1789-F748-448B-854C-8D08001C11E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D366-B601-41AF-AB7D-12EE1F47C0F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5B47-B53F-435E-A827-2C8658E89C0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E9C2-8324-443E-AB91-3CDBDEA371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C784-660F-4238-A081-92A6CF65E2B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1069-15DE-4296-9892-1B001978A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B4E2-1447-45F7-9796-7264E0E8ED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F178-996E-4104-B065-026053222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9543-51B8-4AA3-A8FE-6E5A4534EB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7E34-D915-48A1-85C2-C2CBFCD81D0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D999-2F26-4266-9350-DC4BDD15BCD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7325-86D0-4FF4-BCBA-094D7CBA2CE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16F7-8335-46EF-824A-39E81780FB7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A270-A448-4D7F-98FA-FDEFAC51FF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D617-5791-4A3B-AF89-0CE4B292A8F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29AD-B159-48A2-AC1A-20013A67291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D6B0-4E9D-4ED0-87DB-6270FCC2694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4AD1-2EA1-4EA0-B688-31AD7B725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61D-E3B5-4D1E-8F6A-558763DCCA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7AF58-736D-400D-B917-B48F1189E36D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50E2E-E6E2-40C1-AB17-D1C8B41E30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5C7E86B-6FAE-4FAC-837E-756F6AA55E7F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070E-F2D0-4D41-A15E-F62AE3B88809}" type="slidenum">
              <a:t>3</a:t>
            </a:fld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F4894-2127-422B-A83B-E695A0D5BE0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EA57DDC-E885-4F9B-BDC0-29ACF3F151B7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8C3B1-D7AC-4222-9214-53F9B5C53D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9E778CF-2726-40DE-A472-0557696B5907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905FF-A726-4CED-9ED8-892B439760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72ACF11-8F2D-4C99-A0FB-4F2B3CFD47C9}" type="datetime1">
              <a:rPr lang="en-US"/>
              <a:t>07/30/26</a:t>
            </a:fld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