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F752-4DD1-48DA-A0E0-9F006D00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F00C-60E4-48A5-88EC-446FBE58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32DB4-D0D5-4ADD-9B33-9D65E5A1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5FA5F-FF27-4F89-B1D9-931B7DE2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66CAD-8D14-4359-A127-170A0B69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67AD3-249C-42F1-88E4-6BA2EAEC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0C6E0-8041-47DE-8299-C7D7668F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1E1AD-3174-4084-B456-5D8C29F4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570E6-E62A-461A-8EE2-DBB8356A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2644B-C37B-4EDA-BDC6-F420DBE6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A9AA5-2D9B-4EDF-94A0-B9A9C83A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FDA57A-B9A8-4E02-AA29-367E189F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072C-DB41-4EC5-8C82-F57D5F3BE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E01E68-1E69-410A-9EC0-22289AD4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CA8E42-50D3-45B3-93FE-8661CF7F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415D02-A32D-41FB-8C86-8B1E51AF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E4EFCD-AF1E-443C-92CE-6364C2A6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8D84B0-BBD0-4259-9FE5-10ADAD2A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9CE240-BADC-4A82-986D-5E706A3C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3C4223-65D5-41BC-93EF-4A9D8BED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9E1234-B393-4671-A0E1-AA85A38E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395A72-6B3E-4DD9-BD05-F25EFF64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A8AD0B-E276-4130-AA35-03BD26A9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5F5C-2017-4836-8C66-E5D35EB1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035ACA-35E0-44E8-9C2F-CE00028F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92B42-5EE3-4AB1-96A0-993F3B7C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6F38C-A788-4744-951E-1ED2EDFB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53DEB-42A4-4063-ABD0-82E8B8F0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19885-DA04-45D2-9D6D-870373B2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68079-16DC-4067-889A-49E7FA1B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B10CD-301C-4AEB-B57A-907392C1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F4CDF-1346-4D92-8A60-1F338416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92C0B-F552-4B3F-BF12-3669AC65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D5F7A-8625-4FCA-A1EF-E8373331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5F50-1E71-48B5-BAD3-B3AC83EB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F4413-FB32-4746-940C-349A5517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20515-12D5-4151-B178-24EA6BAB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F6723-AF59-419C-8EB6-81165E50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C1387-0748-492A-A87D-E03C27D5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32B3C-68F1-4E5B-A976-008C2B4C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EA5C9-16AC-4095-83C5-2F78CBB8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69FC9-B508-4A6B-8E7A-D1F9ECFA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7EA9B-36E3-47D3-9402-3EF63927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E0883-3025-4276-91F4-43CEDC79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06005-BC44-46AE-B18C-18E47D9D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1873-41BA-4FE7-B34C-6680BFCF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448C5-A6CE-40E2-B171-035B6673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36EAF-D074-406E-B99D-9F4C7233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C9A69-E08E-4591-A29A-C44DE0B3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1CA76-C3FB-44E4-B258-9D1BD683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21B4E-8761-4EF2-BEBA-A0BF4A37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F041-D430-4856-83B4-4FED4956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9B93-6A94-4A7A-8FF1-2CF4289B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1541-59AE-4734-80B9-C555C863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9245-5186-4DCC-B8EA-C7C65CA1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0C69-8C48-424C-A083-1BCA6E1C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72A6-EE81-42E7-B423-0D63B08F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F041-9B42-48FB-B6AE-FC6E5FB2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11D0-49AE-46F5-8A0B-F15DDE9E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3B50-2CEB-4405-B110-E60B23C4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F40B-BBF2-432F-8B25-8FD9E5ED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53A0-7D5C-43C2-B802-43117B64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89A19-13EC-4305-9724-4810C860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9545E-3D6A-4A0E-A0A1-881C6443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F39A3-D68D-4CFE-9EE0-DF2F798C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ED2F8-0911-4DF3-B227-074E6DA3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E6C05-6E4F-45E8-8E00-3B854B89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A437-235C-44E1-A311-80CB0A87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76B48-CFD4-49B1-8941-36AEBB2E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2837F-147E-4BF4-A517-B1D4A828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297A4-B869-49C4-AA1C-D2C9F5BE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0DB3B-5D01-461E-B2DF-92778796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3E6F0-4FD7-462A-9A48-F1F963CA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53CB0-E159-4E9E-B0B7-1802886D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CCDE7-F4BB-4377-BCD5-C9AFA6BD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6B9C1-41A0-4866-82FB-5ABBB8EC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CC3F5-2410-407D-A57A-19DA66CB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41B85-BD96-4865-84C9-A36E2F22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7FB3-5D61-4BE1-89E2-416592D1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4AB54-E0BA-415B-8FDF-CE21B3D0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9E8B6-983B-4E1B-95A2-0AB5F073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7402D-9569-408A-A99C-E8BEBDB9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A5BA8-F716-4831-AB6E-9D2842B5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2025D-EE3A-4DDA-B630-A3A60AD2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00E97-6D21-4898-A2B9-ECC0D026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5A756-1CBB-4D98-9759-3810D400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F6A87-232D-408A-AD3C-16021D20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906AE-D193-47FB-AD4A-05C9B5DC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135717-8995-4D30-B781-50AB0F0A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C10-4AE2-47AE-8CB5-E864B723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5D846A-7E09-4B8C-8BE1-BACDEA3C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478C6C-C68B-4D6F-B9EB-E9E65CA7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3AD703-49BD-4333-B8D9-B1FA037A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7C4573-6341-4246-9DC9-1B10DCDF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D6856D-7DBC-4EC9-B411-5FE05C97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4F4215-8683-4FC8-BA8E-21897298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D23071-BF77-40FF-B195-4C38D48F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B711D7-DC1A-4739-A760-AAF7B16F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23C01E-435E-44DB-9867-FBB539A1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ADA896-AE01-4F33-BA18-CC971883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68D2-D931-43BD-8502-A751CCB9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D437D8-3508-4D3E-B972-83665E08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AB564-1437-408D-8F7E-8024883FD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7B6F7-B0D4-4B38-BEF3-E051547B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A813C-11D8-4C08-AAC8-0EEFF4A6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2338A-3DE8-4CA1-A18B-64D4E599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5F318-D9E4-4E77-88F8-D44B8FA4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50DC4-8731-43BA-B579-1DF79CAF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601A1-C42E-44B8-ADEA-28CB5DEB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56D69-FD76-4AA7-AF2D-6B1865FF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DEBDB-29DC-49C9-9179-C5EA7441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B618-62BB-48B5-AC48-4F332DD4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57E70-A1BD-4041-BFDE-95D44ED5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3B677-4E10-4D9B-B31C-82446559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B81B7-C8B9-4AE4-B9AF-B2B50342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3EC10-752F-44DF-9F49-86FDFFD8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07344-9EDD-45E3-8A47-7AD7B3DB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946C1-FB29-4C73-A1FD-1C8D1A43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DFBDE-8EAB-4E78-A96F-DD0715F5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01B46-CE63-42F9-B37E-2A4FBD92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8BB61-2A7B-41E5-A847-CEA0D8BE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C8290-9499-406A-B1D1-73A67C44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1470-D1DC-4C14-BFC5-12CD08F5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19852-DF2C-4377-A718-569A7C8C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22DFE-9944-4AC4-9A27-F97CEA66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7E783-FAB4-48DE-BB99-6C2D0D54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BED9D-7F81-4493-A1AE-72EB606B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EE53F-9A8D-41AC-81FD-8DED208A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404FC-DD5E-4582-9E5C-A5897251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20017-AEB8-421D-A4D6-FE523FEC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8A808-8F2A-490C-A0A8-481A4031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65815-480E-45F4-A380-6E79010D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F5FDE-8465-4E82-985C-7AF71BAF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9436-2843-4B0D-848E-469588D5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7219B-7582-406D-B26B-03A80A8A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808DF-F09C-4D2D-9F0A-EC83E50B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B167C-48B1-44F3-8C4B-8A451FCC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945B7-216C-4295-B56B-17010757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5C828-C301-49DB-A75F-77F9143E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26289-9101-4DBD-AA15-2DC6F02A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8FFFC-CABA-4B83-B292-1EFB01EF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FD531-365B-4E65-8259-5F84123A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CFCB4-9EEE-4094-9D27-0C2AD4F2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8C70A-79AE-439F-A8FE-2EC65F9F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7278-9BAF-4ABC-908C-34BCBA6ECAB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1C1F-3863-44BD-92D4-D8C35BB36B8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DB75-FF37-4C96-9F5B-96D782ED820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53BF-A9CC-4AFD-84FC-B8ECBFB75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825F-1657-473F-B0F8-3B609EBCF3C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DFD9-8AFE-41C9-BD9E-4D0A811D0A4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098B-CDD1-4612-AAA2-8E09D3D4F13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DE38-2EA7-46C7-B4AA-21E4F911508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B30D-29C1-4F56-A982-3A139349347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8677-08B2-4C78-9192-953D83060A4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A26B-C695-4FD4-ADC9-7609ADFE37A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EF85-8C4C-4385-A70F-D531D0A6D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5527-3B82-49EA-BD87-ADECF5F66E6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9B26-56BB-4325-A2C8-1A968FAD4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5FCB-B716-43D7-A949-BB5B752A3EF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FD4D-CD71-4207-9218-E5672F0ADDD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E5DD-27C5-4E6D-BCE5-13F1811687B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FE1F-D7CC-44AD-B819-5F9F28D9D59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5194-A285-44DD-B598-3D4EE9A92AB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1EC8-3924-4A45-92DA-BD799A366B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09F6-26C6-4F2F-9FC6-F38943BA71A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B29A-4D0D-40DD-84DB-92CCA95248C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FFD9-7914-40D4-84CA-95C3FA21360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C7F2-26A8-4970-86B1-665AB2BA9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EC20-E5C3-47BE-B1FD-810DD27327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96464-6B1A-4809-9A4E-86F57A86CC6C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9F8EB-8F78-4708-BCA3-6A3F948932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0893CC81-D7AB-477F-A4F2-EE55637D6C94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F1D7B-11E0-4327-8029-52821A582A66}" type="slidenum">
              <a:t>3</a:t>
            </a:fld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50A62A-5792-44EE-B9D7-CE8632C63A4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54B61989-192B-4EAE-BC12-29E6CA06C956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0F175-378E-4C6F-8B50-5E17FBA00A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C56CE3D4-C326-4E69-81FD-3EF2D5CB3823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14BAC-8E77-4EB7-86B3-AB1763C5CFC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FF16B20E-AF86-4264-8F97-D159210C5A0B}" type="datetime1">
              <a:rPr lang="en-US"/>
              <a:t>07/29/26</a:t>
            </a:fld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